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15.wmf" ContentType="image/x-wmf"/>
  <Override PartName="/ppt/media/projctor.wav" ContentType="audio/x-wav"/>
  <Override PartName="/ppt/media/driveby.wav" ContentType="audio/x-wav"/>
  <Override PartName="/ppt/media/image16.gif" ContentType="image/gif"/>
  <Override PartName="/ppt/media/image4.jpeg" ContentType="image/jpeg"/>
  <Override PartName="/ppt/media/whoosh.wav" ContentType="audio/x-wav"/>
  <Override PartName="/ppt/media/image5.png" ContentType="image/png"/>
  <Override PartName="/ppt/media/image10.jpeg" ContentType="image/jpeg"/>
  <Override PartName="/ppt/media/image13.wmf" ContentType="image/x-wmf"/>
  <Override PartName="/ppt/media/image3.jpeg" ContentType="image/jpeg"/>
  <Override PartName="/ppt/media/drumroll.wav" ContentType="audio/x-wav"/>
  <Override PartName="/ppt/media/image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2.png" ContentType="image/png"/>
  <Override PartName="/ppt/media/image11.png" ContentType="image/png"/>
  <Override PartName="/ppt/media/camera.wav" ContentType="audio/x-wav"/>
  <Override PartName="/ppt/media/explode.wav" ContentType="audio/x-wav"/>
  <Override PartName="/ppt/media/image17.wmf" ContentType="image/x-wmf"/>
  <Override PartName="/ppt/media/image9.png" ContentType="image/png"/>
  <Override PartName="/ppt/media/image8.png" ContentType="image/png"/>
  <Override PartName="/ppt/media/clap.wav" ContentType="audio/x-wav"/>
  <Override PartName="/ppt/media/chimes.wav" ContentType="audio/x-wav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44E-6752-43BD-93BD-4725F06B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7BF-8C36-4529-9EB1-35352A98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7FA-F7A6-42B3-B547-0685CF5A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FED-C3F7-4846-8686-B0437AE2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84D1-F2B9-4786-9368-274BC801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3783-728B-4EC5-B330-F96922DC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70AE-24A6-4F03-8398-7626C4A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4A9F-CD22-470E-B953-E317541C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7380-A804-4C2B-9E00-DB209263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D77F-AAE5-4B73-B078-C62F078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F6B0-4C9E-48C3-8BE8-08FC6E65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62D-B8B0-4735-8B1D-4A542B8A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FEF-29F1-4EA1-9224-207408C3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2BC9-8108-49B5-A4D2-42B34D48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F961-DDD1-4C0C-8605-DCC0E54B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D986-2C94-41E1-B6D1-52E87650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0E89-9339-4842-B894-C866A23E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C14-D873-487C-BD46-D18E376A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6A5-F658-4077-A24F-26436D4E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99B-D7EE-446E-B543-A4D152B9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B41-ED50-41A8-B91D-352649CE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C62-80BA-4399-83C9-F5F70777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127-C6E5-478C-B65F-A633381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3A5-552E-4CC8-AED9-37C26AE1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5677-7F08-48A1-BE88-EDC011BCDDB3}" type="slidenum"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15AC-7418-4593-9EBC-7588EF3DEFF1}" type="slidenum">
              <a:rPr b="0" lang="de-DE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9480" y="685800"/>
            <a:ext cx="79250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Umweltschutz geht alle a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8000">
    <p:dissolve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304920" y="6477120"/>
            <a:ext cx="152280" cy="7596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000320" cy="2687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95680" y="3200400"/>
            <a:ext cx="3524400" cy="3025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495680" y="1752480"/>
            <a:ext cx="4114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urch Industrieabga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609480"/>
            <a:ext cx="7267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rten der Luftverschmutzu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4572000"/>
            <a:ext cx="37339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urch Autoabg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15000">
    <p:cover dir="rd"/>
    <p:sndAc>
      <p:stSnd>
        <p:snd r:embed="rId3" name="driveb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8763120" cy="72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eaeaea"/>
                </a:solidFill>
                <a:latin typeface="Arial Rounded MT Bold"/>
              </a:rPr>
              <a:t>Smog</a:t>
            </a:r>
            <a:r>
              <a:rPr b="0" i="1" lang="de-DE" sz="3200" spc="-1" strike="noStrike">
                <a:solidFill>
                  <a:srgbClr val="eaeaea"/>
                </a:solidFill>
                <a:latin typeface="Arial Rounded MT Bold"/>
              </a:rPr>
              <a:t>,</a:t>
            </a:r>
            <a:r>
              <a:rPr b="0" lang="de-DE" sz="3200" spc="-1" strike="noStrike">
                <a:solidFill>
                  <a:srgbClr val="eaeaea"/>
                </a:solidFill>
                <a:latin typeface="Arial Rounded MT Bold"/>
              </a:rPr>
              <a:t> </a:t>
            </a: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Kurzwort aus den englische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Wörtern </a:t>
            </a:r>
            <a:r>
              <a:rPr b="1" i="1" lang="de-DE" sz="3200" spc="-1" strike="noStrike">
                <a:solidFill>
                  <a:srgbClr val="eaeaea"/>
                </a:solidFill>
                <a:latin typeface="Arial Rounded MT Bold"/>
              </a:rPr>
              <a:t>smoke</a:t>
            </a: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 (Rauch) und </a:t>
            </a:r>
            <a:r>
              <a:rPr b="1" i="1" lang="de-DE" sz="3200" spc="-1" strike="noStrike">
                <a:solidFill>
                  <a:srgbClr val="eaeaea"/>
                </a:solidFill>
                <a:latin typeface="Arial Rounded MT Bold"/>
              </a:rPr>
              <a:t>fog</a:t>
            </a: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 (Nebel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Damit wird die Anreicherung der Luft mi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Staub, Wasserdampf, Asche und Ga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bezeichnet. Smog entsteht bei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austauscharmen Wetterlagen, wi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Hochdruck- ode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eaeaea"/>
                </a:solidFill>
                <a:latin typeface="Arial Rounded MT Bold"/>
              </a:rPr>
              <a:t>Inversionswetterlag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eaeaea"/>
                </a:solidFill>
                <a:latin typeface="Times New Roman"/>
              </a:rPr>
              <a:t>"</a:t>
            </a:r>
            <a:r>
              <a:rPr b="0" lang="de-DE" sz="800" spc="-1" strike="noStrike">
                <a:solidFill>
                  <a:srgbClr val="eaeaea"/>
                </a:solidFill>
                <a:latin typeface="Times New Roman"/>
              </a:rPr>
              <a:t>Smog."Microsoft® Encarta® Enzyklopädie 2001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eaeaea"/>
                </a:solidFill>
                <a:latin typeface="Times New Roman"/>
              </a:rPr>
              <a:t>© 1993-2000 Microsoft Corporation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49"/>
              </a:spcBef>
              <a:spcAft>
                <a:spcPts val="7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eaeaea"/>
                </a:solidFill>
                <a:latin typeface="Times New Roman"/>
              </a:rPr>
              <a:t>Alle Rechte vorbehalten.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30000">
    <p:checker dir="vert"/>
    <p:sndAc>
      <p:stSnd>
        <p:snd r:embed="rId1" name="driveb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4249440" cy="560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38680" y="568440"/>
            <a:ext cx="3124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aeaea"/>
                </a:solidFill>
                <a:latin typeface="Bauhaus 93"/>
              </a:rPr>
              <a:t>Smog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31200" y="25146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4680" y="4038480"/>
            <a:ext cx="260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Mexiko –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Stad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6000">
    <p:dissolve/>
    <p:sndAc>
      <p:stSnd>
        <p:snd r:embed="rId2" name="driveb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219320"/>
            <a:ext cx="82296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asserverschmutzunge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urch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722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189680" y="2362320"/>
            <a:ext cx="368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dwirtschaftlic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triebe 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26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6000">
    <p:dissolve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Natur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3920" y="1752480"/>
            <a:ext cx="2137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Gülle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58128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Düngemittel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8640" y="5638680"/>
            <a:ext cx="821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krautvernichtungsmittel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12000">
    <p:checker dir="vert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LW_PEST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  <p:sndAc>
      <p:stSnd>
        <p:snd r:embed="rId2" name="driveb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7228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91120" y="1752480"/>
            <a:ext cx="47242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Durch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Privatpersone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11000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934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4880" y="2362320"/>
            <a:ext cx="782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tbenzin wird ins Wasser entsorg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3276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öle und Schmierstoffe werden ins Wasser entsorg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8240" y="1019160"/>
            <a:ext cx="75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owaschen an Bächen und See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952880"/>
            <a:ext cx="71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Abfälle werden ins Wasser entsorg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50840" y="46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4000">
    <p:checker dir="horz"/>
    <p:sndAc>
      <p:stSnd>
        <p:snd r:embed="rId2" name="whoosh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533520"/>
            <a:ext cx="8305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Bodenschäde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3733920"/>
            <a:ext cx="7467840" cy="16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nter anderem durch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dissolve/>
    <p:sndAc>
      <p:stSnd>
        <p:snd r:embed="rId1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2120" y="990720"/>
            <a:ext cx="761976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ich auch!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over dir="r"/>
    <p:sndAc>
      <p:stSnd>
        <p:snd r:embed="rId1" name="cla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685800" y="533520"/>
            <a:ext cx="76960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ilde Müllablagerunge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95280" y="1752480"/>
            <a:ext cx="1952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z.B. v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1480" y="3124080"/>
            <a:ext cx="8372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Farben, Ölen, Benzin und 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81080" y="4724280"/>
            <a:ext cx="548640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tmüll, wi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20000">
    <p:dissolve/>
    <p:sndAc>
      <p:stSnd>
        <p:snd r:embed="rId2" name="explod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4400" y="431640"/>
            <a:ext cx="45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Alten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Autoreif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3320" y="175248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Kühlschränk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8195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</a:rPr>
              <a:t>Rasenmähern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7640" y="3809880"/>
            <a:ext cx="368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Times New Roman"/>
              </a:rPr>
              <a:t>Altmöbeln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2360" y="5562720"/>
            <a:ext cx="686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und vielem anderen mehr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23000">
    <p:zoom dir="out"/>
    <p:sndAc>
      <p:stSnd>
        <p:snd r:embed="rId1" name="driveb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LW_PEST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562360" cy="3443400"/>
          </a:xfrm>
          <a:prstGeom prst="rect">
            <a:avLst/>
          </a:prstGeom>
          <a:ln w="0">
            <a:noFill/>
          </a:ln>
        </p:spPr>
      </p:pic>
      <p:pic>
        <p:nvPicPr>
          <p:cNvPr id="154" name="BD05163_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3581640" cy="2590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411880" y="63972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</a:rPr>
              <a:t>Pestizide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71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64832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Tanker, Autos,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Baumaschinen u. a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10000">
    <p:checker dir="vert"/>
    <p:sndAc>
      <p:stSnd>
        <p:snd r:embed="rId3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BS00617_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3657600" cy="3124080"/>
          </a:xfrm>
          <a:prstGeom prst="rect">
            <a:avLst/>
          </a:prstGeom>
          <a:ln w="0">
            <a:noFill/>
          </a:ln>
        </p:spPr>
      </p:pic>
      <p:pic>
        <p:nvPicPr>
          <p:cNvPr id="159" name="BD04862_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3733560" cy="3135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609480"/>
            <a:ext cx="4038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ädteba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2057400"/>
            <a:ext cx="41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dustrieba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419720" y="3886200"/>
            <a:ext cx="4267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ßenba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6200" y="5029200"/>
            <a:ext cx="4876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ourismusausba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15000">
    <p:cover dir="rd"/>
    <p:sndAc>
      <p:stSnd>
        <p:snd r:embed="rId3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915400" cy="6553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609480" y="609480"/>
            <a:ext cx="6705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ie Industrieabga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3520" y="1905120"/>
            <a:ext cx="6400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ommen durch den Rege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3352680"/>
            <a:ext cx="5105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 den Boden . . 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advTm="10000">
    <p:cover dir="d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69600" y="355680"/>
            <a:ext cx="39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Times New Roman"/>
              </a:rPr>
              <a:t>Große Schäd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5920" y="965160"/>
            <a:ext cx="66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Times New Roman"/>
              </a:rPr>
              <a:t>werden noch immer durch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2895480"/>
            <a:ext cx="8001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ssentierhaltu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5257800"/>
            <a:ext cx="27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Times New Roman"/>
              </a:rPr>
              <a:t>verursach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15000">
    <p:checker dir="horz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09480" y="685800"/>
            <a:ext cx="79250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ir fassen 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zusammen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dissolve/>
    <p:sndAc>
      <p:stSnd>
        <p:snd r:embed="rId1" name="explod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09480" y="228600"/>
            <a:ext cx="79250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Umweltschutz geht alle a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4419720"/>
            <a:ext cx="7620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ich auch!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2240" y="574560"/>
            <a:ext cx="7255080" cy="76428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Deshalb :  Achte immer auf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AG00165_" descr=""/>
          <p:cNvPicPr/>
          <p:nvPr/>
        </p:nvPicPr>
        <p:blipFill>
          <a:blip r:embed="rId1"/>
          <a:stretch/>
        </p:blipFill>
        <p:spPr>
          <a:xfrm>
            <a:off x="762120" y="2000160"/>
            <a:ext cx="3429000" cy="1633680"/>
          </a:xfrm>
          <a:prstGeom prst="rect">
            <a:avLst/>
          </a:prstGeom>
          <a:ln w="0">
            <a:noFill/>
          </a:ln>
        </p:spPr>
      </p:pic>
      <p:pic>
        <p:nvPicPr>
          <p:cNvPr id="177" name="BD05412_" descr=""/>
          <p:cNvPicPr/>
          <p:nvPr/>
        </p:nvPicPr>
        <p:blipFill>
          <a:blip r:embed="rId2"/>
          <a:stretch/>
        </p:blipFill>
        <p:spPr>
          <a:xfrm>
            <a:off x="5870520" y="1947960"/>
            <a:ext cx="2739960" cy="2565360"/>
          </a:xfrm>
          <a:prstGeom prst="rect">
            <a:avLst/>
          </a:prstGeom>
          <a:ln w="0">
            <a:noFill/>
          </a:ln>
        </p:spPr>
      </p:pic>
      <p:pic>
        <p:nvPicPr>
          <p:cNvPr id="178" name="BD05113_" descr=""/>
          <p:cNvPicPr/>
          <p:nvPr/>
        </p:nvPicPr>
        <p:blipFill>
          <a:blip r:embed="rId3"/>
          <a:stretch/>
        </p:blipFill>
        <p:spPr>
          <a:xfrm>
            <a:off x="2819520" y="3124080"/>
            <a:ext cx="3225600" cy="3434040"/>
          </a:xfrm>
          <a:prstGeom prst="rect">
            <a:avLst/>
          </a:prstGeom>
          <a:ln w="0">
            <a:noFill/>
          </a:ln>
        </p:spPr>
      </p:pic>
      <p:pic>
        <p:nvPicPr>
          <p:cNvPr id="179" name="BD05186_" descr=""/>
          <p:cNvPicPr/>
          <p:nvPr/>
        </p:nvPicPr>
        <p:blipFill>
          <a:blip r:embed="rId4"/>
          <a:stretch/>
        </p:blipFill>
        <p:spPr>
          <a:xfrm>
            <a:off x="457200" y="4267080"/>
            <a:ext cx="2286000" cy="2252880"/>
          </a:xfrm>
          <a:prstGeom prst="rect">
            <a:avLst/>
          </a:prstGeom>
          <a:ln w="0">
            <a:noFill/>
          </a:ln>
        </p:spPr>
      </p:pic>
      <p:pic>
        <p:nvPicPr>
          <p:cNvPr id="180" name="BS01235_" descr=""/>
          <p:cNvPicPr/>
          <p:nvPr/>
        </p:nvPicPr>
        <p:blipFill>
          <a:blip r:embed="rId5"/>
          <a:stretch/>
        </p:blipFill>
        <p:spPr>
          <a:xfrm>
            <a:off x="6324480" y="4495680"/>
            <a:ext cx="2590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N00790_" descr=""/>
          <p:cNvPicPr/>
          <p:nvPr/>
        </p:nvPicPr>
        <p:blipFill>
          <a:blip r:embed="rId1"/>
          <a:stretch/>
        </p:blipFill>
        <p:spPr>
          <a:xfrm>
            <a:off x="1465200" y="399960"/>
            <a:ext cx="6688080" cy="5848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19040" y="304920"/>
            <a:ext cx="84200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u willst wissen warum ?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8120" y="3505320"/>
            <a:ext cx="32763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K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split dir="in" orient="horz"/>
    <p:sndAc>
      <p:stSnd>
        <p:snd r:embed="rId1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1447920"/>
            <a:ext cx="748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Welche Arten der Umweltverschmutzungen kennst du 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1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4400" y="91440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uftverschmutzunge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pull dir="r"/>
    <p:sndAc>
      <p:stSnd>
        <p:snd r:embed="rId1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0880" y="2743200"/>
            <a:ext cx="838224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sserverschmutzunge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2000">
    <p:split dir="out" orient="vert"/>
    <p:sndAc>
      <p:stSnd>
        <p:snd r:embed="rId1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3962520"/>
            <a:ext cx="8305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Bodenverschmutzun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 advTm="10000">
    <p:cover dir="rd"/>
    <p:sndAc>
      <p:stSnd>
        <p:snd r:embed="rId3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447920"/>
            <a:ext cx="719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Times New Roman"/>
              </a:rPr>
              <a:t>Prima !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Wie aber entstehen diese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Umweltschäden 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 advTm="8000">
    <p:dissolve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5T17:36:09Z</dcterms:created>
  <dc:creator>Karin Müller</dc:creator>
  <dc:description/>
  <dc:language>en-US</dc:language>
  <cp:lastModifiedBy>Karin Müller</cp:lastModifiedBy>
  <dcterms:modified xsi:type="dcterms:W3CDTF">2002-09-29T17:55:39Z</dcterms:modified>
  <cp:revision>13</cp:revision>
  <dc:subject/>
  <dc:title>PowerPoint-Präsentation</dc:title>
</cp:coreProperties>
</file>