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3A6D-2FD8-45FE-B70E-19769113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4186-CA9B-4EC2-984B-7AEA7CCA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1234-D415-4FCE-AE79-3A1C8606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131A-C664-42EF-9F58-F9F6C213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4B07-09E7-4324-A917-8DC2AAC1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154C-0EA3-4104-880E-E12AB155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B0AE-3690-4B70-A9F9-4E90D5E2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2120-3768-40B0-8176-B7E4514C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611F-1EA3-4BA6-93E8-72F303C8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8809-EE98-4FC1-B8EF-3B8D0CAE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264-A91C-4475-90B5-F970230A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7281-BEEC-4FCF-A6A2-E734AC0F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AFD3-8BFB-47ED-83E9-6E4DE0CE9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55840" y="0"/>
            <a:ext cx="6232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77440"/>
            <a:ext cx="77724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800" spc="-1" strike="noStrike">
              <a:solidFill>
                <a:srgbClr val="0000cc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836640"/>
            <a:ext cx="828036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Tourismus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in Bautzen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uszüge aus „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Bautzener Höhepunkte 2007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25. Janua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Vogelhochz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6. - 9. Apri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Ostern in Baut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30. Apri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Hexenbre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28. Juni - 5. Augus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12. Bautzener Theaterso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1524240" cy="1104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12000" y="2852640"/>
            <a:ext cx="1523880" cy="1000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859280" y="4005360"/>
            <a:ext cx="1523880" cy="1066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804000" y="4797360"/>
            <a:ext cx="152388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Auszüge aus „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Bautzener Höhepunkte 2007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Monotype Corsiva"/>
              </a:rPr>
              <a:t>24. - 26. August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Monotype Corsiva"/>
              </a:rPr>
              <a:t>15. Wasserkunstf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Monotype Corsiva"/>
              </a:rPr>
              <a:t>15. September 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Monotype Corsiva"/>
              </a:rPr>
              <a:t>14. Internationaler Bautzener Stadtlau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Monotype Corsiva"/>
              </a:rPr>
              <a:t>14. - 16. September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Monotype Corsiva"/>
              </a:rPr>
              <a:t>14. Bautzener Unternehmer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Monotype Corsiva"/>
              </a:rPr>
              <a:t>30. November - 23. Dezember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Monotype Corsiva"/>
              </a:rPr>
              <a:t>Bautzener Weihnachtsmar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140360" y="1484280"/>
            <a:ext cx="1523880" cy="1047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77080" y="2492280"/>
            <a:ext cx="1523880" cy="1276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651640" y="3933720"/>
            <a:ext cx="1523880" cy="1067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508720" y="5157720"/>
            <a:ext cx="15238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Monotype Corsiva"/>
              </a:rPr>
              <a:t>Höhepunkt für die Jug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36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25. - 28. Mai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13. Internationales VW-Pfingsttre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84520" y="1125360"/>
            <a:ext cx="42991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2:10:49Z</dcterms:created>
  <dc:creator>Lehrer</dc:creator>
  <dc:description/>
  <dc:language>en-US</dc:language>
  <cp:lastModifiedBy>Lehrer</cp:lastModifiedBy>
  <dcterms:modified xsi:type="dcterms:W3CDTF">2007-12-06T12:39:54Z</dcterms:modified>
  <cp:revision>3</cp:revision>
  <dc:subject/>
  <dc:title>Folie 1</dc:title>
</cp:coreProperties>
</file>