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170-CDB8-4E1D-BF60-5D5050FE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F1DC-358D-41FE-B641-F3716485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1FB8-356C-48BA-97E1-9692447C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5B0-34C9-4FFD-8A23-B305ADDA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059A-14DF-4A25-80FE-7348CA89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A84C-0D31-482E-8B2F-004A3D9C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A062-7C55-43AB-885E-715C706F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911F-0B7F-494C-A0D8-51366544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5706-5626-47F4-A06A-90DFCF2C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4CE0-D22E-49BE-9973-51434966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E14B-0EF8-4723-9A9C-B0F62467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F73-8D16-431F-AC9B-D99B65B5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E4B7-18DD-4C37-B0DF-DE2C3B1B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4995-F0B4-4034-BF51-44D95FA5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0350-CC1B-4374-918C-8608509D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AF85-2B9C-415F-AFED-7E3DB8BC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5D3E-2D1B-4E2C-80E8-C7AB5495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F70-3CDB-4B2D-89C7-496A0919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F71C-99FA-44F4-91E0-48AF8BEB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95CC-464F-47D5-86B1-3CCAB7E7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AC15-2A44-4FEC-A983-14CF1215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A97E-B87A-4ECB-85E1-13A6A24C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229-CD8A-4C3A-9990-9B80FB4C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E5A0-E93D-4BBC-827B-822A2C62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AFE6-7A7E-4E6E-B4F9-D80FCD8878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96AE-691F-4AA4-8950-AA66CE32C0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er Transistor und seine Anwendung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bert G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rlheinz Kuch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urentius Kmet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abine Wa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ffffff"/>
                </a:solidFill>
                <a:latin typeface="Arial"/>
              </a:rPr>
              <a:t>Schalter, Verstärker, Neg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31640" y="1951200"/>
            <a:ext cx="8172720" cy="3322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5280" y="1916280"/>
            <a:ext cx="8209080" cy="4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rstellung eines Bauteiletest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chreib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Bauteil-Tester eignet sich zum Prüfen von Widerständen, Kondensatoren, Dioden, Leuchtdioden und Transisto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benso ist er als einfacher Durchgangsprüfer nutzb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r Signalisierung wird eine Leuchtdiode verwend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ternativ oder auch zusätzlich kann ein Summer für 9V angeschlossen werden, der akustisch signalisi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unktionsbeschreibung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ktioniert 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24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chgangsprüf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24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densatorprü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24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odent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24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uchtdiodent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24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stor-Tes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chaltu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761080" cy="4752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uteilelis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00000" y="1557360"/>
          <a:ext cx="7634520" cy="4462560"/>
        </p:xfrm>
        <a:graphic>
          <a:graphicData uri="http://schemas.openxmlformats.org/drawingml/2006/table">
            <a:tbl>
              <a:tblPr/>
              <a:tblGrid>
                <a:gridCol w="1630440"/>
                <a:gridCol w="2835360"/>
                <a:gridCol w="3168720"/>
              </a:tblGrid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eic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ute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rt / Ty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erst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 kOh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erst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0 Oh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is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C 547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uchtdi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, 5mm, r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V-Batterie-Cl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arstellung der Ergebnisse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Begriffslexikon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t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Quellenverzeichnis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egründung des Them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schichtliche Entwicklu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8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finder - amerikanische Forscher John Bardeen  und Walter H. Brattain 194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956 erhielten sie dafür den Nobelpre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usammensetzung des Namens aus den englischen Wörtern „transfer“ (übertragen) und „resistor“ (Widerst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Aufbau und Funktionsweise des npn- Transisto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stel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08800" y="3246480"/>
            <a:ext cx="512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ufbau und Funktionsweise des npn- Transi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Aufbau und Funktionsweise des npn- Transisto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760" y="159984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b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albleiterbauelement mit drei Anschlü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der liegt im Inneren an einer n- oder p- Sch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 nach Schichtfolge entstehen npn- oder pnp- Transisto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ttlere Schicht Basis (B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äußere Schichten Collektor (C) oder Emitter (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Aufbau und Funktionsweise des npn- Transisto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trans_mod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688360" cy="3971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124000" y="1916280"/>
            <a:ext cx="1295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Aufbau und Funktionsweise des npn- Transisto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kalis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2475000"/>
            <a:ext cx="7848720" cy="2825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58920" y="2565360"/>
            <a:ext cx="48258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odenvorgänge im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nwendungen im täglichen Leben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al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 Transistor wirkt als Schalter, der mit einem kleinen Basisstrom eine Spannungsquelle ein- und ausschalt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Verstärker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nsatz häufig als Schaltverstä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2:25:37Z</dcterms:created>
  <dc:creator>Besitzer</dc:creator>
  <dc:description/>
  <dc:language>en-US</dc:language>
  <cp:lastModifiedBy>Besitzer</cp:lastModifiedBy>
  <dcterms:modified xsi:type="dcterms:W3CDTF">2007-12-06T13:06:45Z</dcterms:modified>
  <cp:revision>9</cp:revision>
  <dc:subject/>
  <dc:title>Der Transistor und seine Anwendung </dc:title>
</cp:coreProperties>
</file>