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9EE-DE81-47E0-9A83-D45FA663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D66-7D93-450F-9DC1-F90FBEBD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7E7-DFB5-4675-B143-CF899B3C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4B1-237B-44CA-928F-B367BCED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CE3-1E49-438A-B388-5DE2573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6EB-A2AF-433A-8300-777CEEBF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C13-BB71-4157-B9D6-9B9008A6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AF9-D73B-41FA-9BEA-1E932B86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30F-790C-4336-8758-A1D23BE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E5E-DD93-4D9D-B7BC-0CBFF70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9DF-9D07-45DB-843F-A656C51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E13-F1D5-43E9-A432-F778CBC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4BA2-712B-4216-A9CA-8BE369AA6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2057400"/>
            <a:ext cx="4643280" cy="14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r superge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3048120"/>
            <a:ext cx="358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ndyhalt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tze Han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g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ßstüt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g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lholz Kie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x65x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ückw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rrhol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x64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nn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stoff / 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mess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 txBox="1"/>
          <p:nvPr/>
        </p:nvSpPr>
        <p:spPr>
          <a:xfrm>
            <a:off x="3429000" y="533520"/>
            <a:ext cx="25336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ücklist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Z-Teil%202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270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Z-Teil%201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895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90720" y="762120"/>
          <a:ext cx="7315200" cy="5867280"/>
        </p:xfrm>
        <a:graphic>
          <a:graphicData uri="http://schemas.openxmlformats.org/drawingml/2006/table">
            <a:tbl>
              <a:tblPr/>
              <a:tblGrid>
                <a:gridCol w="960480"/>
                <a:gridCol w="2620800"/>
                <a:gridCol w="2209680"/>
                <a:gridCol w="15242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fd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sschri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smitte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kzeu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merkung/Abmaß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hmaßkontr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hlma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reißen Rückw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ei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hlmaß, Winkel, Bleist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x65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ägen (Tei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nsäge (Laubsä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leifen (Tei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f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dschleifer (Fe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reißen Fuß (Teil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hlmaß, Winkel, Bleist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x65x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ägen (Teil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nsä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leifen (Teil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f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dschleifer (Fe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leben –Verbinden der Teile 3-4 mi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zkaltl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h Skiz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leben der Rückw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zkaltle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 txBox="1"/>
          <p:nvPr/>
        </p:nvSpPr>
        <p:spPr>
          <a:xfrm>
            <a:off x="1981080" y="76320"/>
            <a:ext cx="5715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rbeitsablaufpla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76520" y="457200"/>
            <a:ext cx="5715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ewertungsvorschläg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1600200"/>
            <a:ext cx="62481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 Bewertungskriteri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sschu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dnung / Sauberkeit am Arbeits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durch den Lehrer (Beobachtungsbö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kstückbe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ßhalt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indungsqualitä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bewertung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2:36:53Z</dcterms:created>
  <dc:creator>wb_13</dc:creator>
  <dc:description/>
  <dc:language>en-US</dc:language>
  <cp:lastModifiedBy>wb_13</cp:lastModifiedBy>
  <dcterms:modified xsi:type="dcterms:W3CDTF">2004-12-16T13:29:00Z</dcterms:modified>
  <cp:revision>4</cp:revision>
  <dc:subject/>
  <dc:title>PowerPoint-Präsentation</dc:title>
</cp:coreProperties>
</file>