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D47-B974-45A1-8F25-38D806D3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E1F-D350-4844-945B-2DEAF50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E86-11AF-436D-93B3-E11AD81A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C12-874E-45B2-A508-E42AF2A0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CE-F3C2-42A4-B657-838438B9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E54-7421-43C2-9BB3-CDD96EE4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6C2-62C7-482A-A288-9826B30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0B3-0646-4A0A-BE11-E91F449B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F90-3EDC-424C-A46B-2C0C3AE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08A-7F43-4AA7-A13A-70FD38F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029-81F9-431D-892E-F3B3A16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E77-B9EC-4D27-BD22-2D30816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CD9-493C-4FF2-95BE-8958EF6A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24560" y="63828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ba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sition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6960" y="2286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atellitenbahnen mit massstabsgetreuen Abständen"/>
          <p:cNvPicPr/>
          <p:nvPr/>
        </p:nvPicPr>
        <p:blipFill>
          <a:blip r:embed="rId1"/>
          <a:stretch/>
        </p:blipFill>
        <p:spPr>
          <a:xfrm>
            <a:off x="304920" y="228600"/>
            <a:ext cx="201456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560" y="21337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Satellit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 6 Umlaufba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itionsbestimmung mit zwei Satelliten in einer 2-dimensionalen Welt"/>
          <p:cNvPicPr/>
          <p:nvPr/>
        </p:nvPicPr>
        <p:blipFill>
          <a:blip r:embed="rId2"/>
          <a:stretch/>
        </p:blipFill>
        <p:spPr>
          <a:xfrm>
            <a:off x="5695920" y="2743200"/>
            <a:ext cx="3295800" cy="29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8960" y="533412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chn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fernung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windigkeit x 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ps%20traktor%20satelliten%20mit%20referenzstation" descr=""/>
          <p:cNvPicPr/>
          <p:nvPr/>
        </p:nvPicPr>
        <p:blipFill>
          <a:blip r:embed="rId3"/>
          <a:stretch/>
        </p:blipFill>
        <p:spPr>
          <a:xfrm>
            <a:off x="0" y="3157560"/>
            <a:ext cx="5715000" cy="370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4640" y="62485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fä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3040" y="289548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Elemente: Satelliten, Empfänger, Referenz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05160" y="1371600"/>
            <a:ext cx="439416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litärische Zwecke (Raketensteu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vigationssystem im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sion Far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PS-Block IIF-Satellit"/>
          <p:cNvPicPr/>
          <p:nvPr/>
        </p:nvPicPr>
        <p:blipFill>
          <a:blip r:embed="rId4"/>
          <a:stretch/>
        </p:blipFill>
        <p:spPr>
          <a:xfrm>
            <a:off x="7162920" y="380880"/>
            <a:ext cx="1562040" cy="1249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2895480"/>
            <a:ext cx="533412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55:02Z</dcterms:created>
  <dc:creator>jriehle</dc:creator>
  <dc:description/>
  <dc:language>en-US</dc:language>
  <cp:lastModifiedBy>Judith</cp:lastModifiedBy>
  <dcterms:modified xsi:type="dcterms:W3CDTF">2005-02-26T09:27:41Z</dcterms:modified>
  <cp:revision>4</cp:revision>
  <dc:subject/>
  <dc:title>Folie 1</dc:title>
</cp:coreProperties>
</file>