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5EB-EBA3-4973-A5A5-AF792CB8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476-0DE7-4D5A-AF16-2880142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362-67FF-48E1-AE6E-CB99524D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337-9EC7-458E-90C9-3A6798B6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64A-E908-48CD-BC02-39419CFA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312-D6E3-45A6-B1C0-7792574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913-1AF7-4AE3-A8A3-5BEA9CB2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2B7-8D2B-4106-83C1-DAFE57E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486-61CD-402B-85F0-9E7494FB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94F-8F0C-4DB2-8108-796AF22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008-A784-4F5D-9514-19E4D09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B09-5307-423D-8392-35AE3F53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EBEF-E8F7-44B8-8D64-D0EF3B07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520" y="2779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Kennzeichnungspflichtig sind..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in der EU seit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209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90720"/>
            <a:ext cx="746748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 alle Lebensmittel, Zutaten oder Zusatzstoffe, die aus gentechnisch veränderten Organismen (GVO) hergestellt sind, gleich ob die gentechnische Veränderung nachweisbar ist oder ni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Öl aus gentechnisch veränderten Sojabohnen oder gentechnisch verändertem R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Stärke aus genetisch verändertem M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Traubenzucker und Glucosesirup aus gentechnisch veränderter Maisstär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Zusatzstoffe wie Lecithin aus gentechnisch veränderten Sojaboh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Aroma aus gentechnisch verändertem Sojaeiwei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Diese Produkte konnten Sie auch bisher schon im Supermarkt finden. Sie mussten 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bisher nur gekennzeichnet werden, wenn sie noch gentechnisch veränderte 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Bestandteile enthielten</a:t>
            </a:r>
            <a:r>
              <a:rPr b="0" lang="en-US" sz="1200" spc="-1" strike="noStrike">
                <a:solidFill>
                  <a:srgbClr val="3333ff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505320"/>
            <a:ext cx="7620120" cy="14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alle Lebensmittel, die selbst ein gentechnisch veränderter Organismus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Kartoffel, Maiskolben, T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Fisch (lebe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Solche Lebensmittel sind bislang in der EU noch </a:t>
            </a:r>
            <a:r>
              <a:rPr b="1" lang="en-US" sz="1200" spc="-1" strike="noStrike" u="sng">
                <a:solidFill>
                  <a:srgbClr val="3333ff"/>
                </a:solidFill>
                <a:uFillTx/>
                <a:latin typeface="Comic Sans MS"/>
              </a:rPr>
              <a:t>nicht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 zugela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105520"/>
            <a:ext cx="7620120" cy="15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.alle Lebensmittel, die gentechnisch veränderte Organismen enth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cc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Beispi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Joghurt mit gentechnisch veränderten Bakter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  Weizenbier mit gentechnisch veränderter He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Solche Lebensmittel sind bislang in der EU noch </a:t>
            </a:r>
            <a:r>
              <a:rPr b="1" lang="en-US" sz="1200" spc="-1" strike="noStrike" u="sng">
                <a:solidFill>
                  <a:srgbClr val="3333ff"/>
                </a:solidFill>
                <a:uFillTx/>
                <a:latin typeface="Comic Sans MS"/>
              </a:rPr>
              <a:t>nicht</a:t>
            </a:r>
            <a:r>
              <a:rPr b="1" lang="en-US" sz="1200" spc="-1" strike="noStrike">
                <a:solidFill>
                  <a:srgbClr val="3333ff"/>
                </a:solidFill>
                <a:latin typeface="Comic Sans MS"/>
              </a:rPr>
              <a:t> zugela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4:11:02Z</dcterms:created>
  <dc:creator>Katrin</dc:creator>
  <dc:description/>
  <dc:language>en-US</dc:language>
  <cp:lastModifiedBy>Katrin</cp:lastModifiedBy>
  <dcterms:modified xsi:type="dcterms:W3CDTF">2004-11-24T13:30:40Z</dcterms:modified>
  <cp:revision>9</cp:revision>
  <dc:subject/>
  <dc:title>PowerPoint-Präsentation</dc:title>
</cp:coreProperties>
</file>