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C0C-369B-4690-8918-21F1682B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733-35D9-4894-AF27-CB90B8F4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38F-FF65-41B3-A0A4-A75EA1E9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33A-4983-4EB6-AFDD-A2A2DF94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DC8B-FFA1-4428-9E84-76CFB3FA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BBA-351C-4EED-A07C-4DD3A377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783-C881-4E72-8A9B-20209BBF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4E87-D515-4DE4-8EE6-2AB9CE9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D96-AE5C-4576-A2AC-246463C6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FE21-8927-4FAF-9958-79CE529C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2A62-7021-4125-8E18-4A56EE47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773-9B4A-4D4E-B8E2-6C94155D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C5AF-280B-4480-A702-042E9F9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EF1-C799-465E-8B7B-C4F3DC2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A55C-C874-4667-8C29-CE336C5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897-7728-4941-B9DC-536DDB53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273-C6A4-4E0D-8CEA-D635390A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6C9-36DF-406B-8E17-2912D1D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1DE-0AB2-4028-9B46-1C458FAF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BFE-70C6-45A9-B1E7-DE48255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E84-EE75-4DF3-ABFE-F961407C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833-23ED-4A5F-8956-69D8123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86A-BF45-42AB-AD58-B52CD04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995-34B0-480B-A15E-C475092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BD9E-460C-445E-B7F8-8F85F192681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4DA8-4517-48B0-ABAF-E4C120B0ED2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ecff"/>
                </a:solidFill>
                <a:uFillTx/>
                <a:latin typeface="Arial"/>
              </a:rPr>
              <a:t>Möglichkeiten zum Erfassen personenbezogener Da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eisausschrei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unden-, Bonusk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uswe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reditk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Vor- und Nachte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Konsum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ndividuelle Werb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erletzung des Privatleb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öglicher Missbrauch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oduzen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undenorientierte Werb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inschätzung des Lebens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Zukunftorientierte Marktwirtscha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onsumverhalten bekan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RF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dio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equenz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I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ntifik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krochip zur Identifikation, Verfolgung von War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urch Radiow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wendungsbereich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inkaufshäu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ag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uswe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Schuf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chu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zgemeinschaft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ür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llgemeine Kreditunternehmen (1927 gegründe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rganisation von Kreditinstituti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rmittelt Angaben zur finanziellen Lage und Zahlungsmoral der Kun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erden an Vertragspartner übermittelt (ca. 500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Personenbezogene Da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gaben über persönl. oder finanzielle Verhältnisse einer Person ( Vorlieben, Hobbys, Konsumverhalten, finanz. Lage, etc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ecff"/>
                </a:solidFill>
                <a:uFillTx/>
                <a:latin typeface="Arial"/>
              </a:rPr>
              <a:t>Voraussetzung zum Erheben personenbezogener Dat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Vertragspartner der Schufa (wie oben genannt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oraussetzung: Personen die ein mit kreditrisiko behaftetes Geschäft abschließe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dere Beispiele: Post (Telefonbu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Recht auf Selbstbestimmu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m Grundgesetz ist festgeschrieben, dass jeder ein Recht auf informationelle Selbstbestimmung hat, d.h. das jeder über die Freigabe seiner persönl. Daten selbst entscheiden kan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ann eingeklagt werd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sp.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inweise auf Briefkästen ( keine Werbu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stimmen ob im Telefonbuch oder nic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Qu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q-21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wissen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sn.schule.de/~bechi/mcg/mcg09/db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Filmbeitrag des WDR (q-21) vom 05.06.04, 10:00 Uh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www.schufa.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6:53:19Z</dcterms:created>
  <dc:creator>Walker</dc:creator>
  <dc:description/>
  <dc:language>en-US</dc:language>
  <cp:lastModifiedBy>Walker</cp:lastModifiedBy>
  <dcterms:modified xsi:type="dcterms:W3CDTF">2004-06-13T14:36:53Z</dcterms:modified>
  <cp:revision>6</cp:revision>
  <dc:subject/>
  <dc:title>Möglichkeiten zum Erfassen personenbezogener Da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