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778-3AAE-42B0-B7A3-894C96C6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78C-F59A-4AB2-82C0-8A6A303B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62A-DD49-43CC-B97E-5B71F6EA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F8D-1AD9-43DB-87EE-FF64ED24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752-870F-4841-990A-F4ED064E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010-99C7-4AB2-AE76-FD27D071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C88-9DD1-422C-8358-41A21423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B45-5281-42A6-847C-66B302AE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EDA-1ACB-42FE-BAD4-9E7685E2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30A-A2AF-49FA-AB60-3A0A27C5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0E0-44B5-48AC-B50C-9667D9F2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CD2-9470-4E3F-B013-BFFB6048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A5E5-6444-4A4D-84D6-966FCA0BD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dr.de/tv/q21/619.0.p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öglichkeiten zur Erfassung personenbezogener Da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isausschrei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(Provider, Webseitenbetreiber- Cook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denka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andhä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Qu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landtag.sachsen.de/slt_online/de/infothek/index.asp?page=landesbeauftragte/datenschutzbeauftragter/index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bnv-gz.de/gz_stadt/schule/dzr/Homepage/marcom/internet_datenschutz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datenschutz.thueringen.de/tlfd/aufgabe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sn.schule.de/~heg/index.php?article=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wdr.de/tv/q21/611.0.p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wdr.de/tv/q21/612.0.p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wdr.de/tv/q21/619.0.p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forium.de/do/displaySchufaInfo;jsessionid=0FF00427DE0FECD361C3373247B556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www-kurs.de/cookie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crosoft Encarta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tp://www2.onwirtschaft.t-online.de/c/03/96/05/396058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/ Con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z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gezielte Werb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kundenfreund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nschaffungs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s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essere Bera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rbeitslos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Kundenprofil (Überwach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genaue Auflistung aller Geldtransak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 Frequenz Identifik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htlose Chips mit Ant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fert Informationen über einzelnen Arti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 Futurest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äter evtl. in Reisepä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ässe und Alufolie stö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oto: RFID-Chip auf dem Frischkäse; Rechte: WD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3860640"/>
            <a:ext cx="29880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u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7 gegründete Schutzgemeinschaft für allgemeine Kreditsich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l: Schutz der Vertragspartner vor Kreditausfä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79916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-Cook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zielle Datenpakete, Webseitenbetreiber ermöglichen Benutzerprofile der Besucher zu erstel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stbesuch Webseite: Server ( besuchte Seite wird auf diesem angeboten) platziert Identifikationscode auf der Festplatte des Benutzerrech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iterer Besuch: Webseitenbetreiber bzw. Betreiber des Servers kann dieses Datenpaket abf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e Surfgewohnheiten des Benutzers können in Erfahrung gebracht werden  ( z.B .welche Webseiten/ welche Server wie of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möglicht schnelleres Internetsur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ersonenbezogene D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gaben über persönliche und sachliche Verhältnisse einer Person, z.B.: Geburtsdatum, Familienstand, Hobby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ürfen von Firmen erfragt werden, unter der Voraussetzung, dass sie nicht an dritte weitergegeben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enschu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enbezogene Daten werden vor Missbrauch durch andere Personen geschützt, welche gegen das Persönlichkeitsrecht verstoß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ährleistet die Freiheit des Einzel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n wem und unter welchen Voraussetzungen dürfen personenbezogene Daten erhoben werden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stitute, Polizei, Krankenhaus und ähnl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nschu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ht gegen die Person verwendet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formationelle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elbstbestimm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edem Einzelnen wird die Befugnis eingeräumt, selbst über Preisgabe, Einsatz bzw. Verwendung seiner persönlichen Daten zu bestim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ht auf Auskunft über die zu seiner Person gespeicherten 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erichtigung, Löschung und Sperrung der zu seiner Person gespeicherten 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chadensersat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7:28:57Z</dcterms:created>
  <dc:creator>Konni</dc:creator>
  <dc:description/>
  <dc:language>en-US</dc:language>
  <cp:lastModifiedBy>Konni</cp:lastModifiedBy>
  <dcterms:modified xsi:type="dcterms:W3CDTF">2004-06-13T18:56:29Z</dcterms:modified>
  <cp:revision>17</cp:revision>
  <dc:subject/>
  <dc:title>Möglichkeiten zur Erfassung personenbezogener Daten</dc:title>
</cp:coreProperties>
</file>