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E402-13D7-4B33-AFC5-DD243204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DFC2-B8F0-403E-A875-7424F1C2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EF67-EE19-42AC-AABC-6EFA12B5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4FE0-E602-40AF-95D4-4348CCF4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9AF5-0796-43E8-9441-E059F495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23A4-B316-4A29-85C3-2799FEA7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4BB5-A997-4E78-A080-5FA29FC0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5DDB-722A-4412-880C-9B0E065C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D4C0-16B1-4960-9F9F-34498122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AC12-3F99-4860-8BBD-C4C7923B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323D-D392-4946-BBB7-98373F90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A886-447F-4FF0-BAF7-C1E3EA4A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B01E-197D-40AD-AD06-76D1EAA4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29FA-6504-41A5-A35E-F7FBBDD0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5946-F272-4D86-AA23-9510DACE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F906-62F9-4F3F-A27B-28AA6059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B6B7-83F1-4B89-9674-2EFF57B6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569B-2BB9-4761-84AD-6B582AC9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4E57-A687-4577-B0DA-99727811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B28F-7351-4BE4-AE41-05388504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6160-FA97-4659-B82A-B91C0644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81D2-BFF8-44A2-A19A-56C60738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8519-56A4-4491-9AB0-D16FBF72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433A-E423-44DF-AA1A-555CC6A6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1954-CDB7-49ED-85B8-C73245EF65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5B59-825D-4EDF-853E-7AEE8B0C2A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atenschutz-berlin.de/recht/de/bdsg/bdsg1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7280"/>
            <a:ext cx="746748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Datenschutz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von Julia Schrapel, Elisabeth Neumann und Elisabeth Schuster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Quellen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Interne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www.q-21.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www.google.de </a:t>
            </a:r>
            <a:r>
              <a:rPr b="0" lang="de-DE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Suchbegriffe RFID   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                      und SCHUFA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www.datenschutz-berlin.de/recht/de/bdsg/bdsg1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www.worldnetdaily.com/ news/article.asp?ARTICL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elche Möglichkeiten des Erfassens personenbezogener Daten gibt es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net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suchte Seiten werden erfas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y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gabe persönlicher Da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winnspiel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ragen nach Namen, Alter, Adresse, Hobbys, Konsumgewohnhei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reditkarte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inblick in finanzielle L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rstellung eines Konsumentenprof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elche Vor-und Nachteile hat die Erhebung personenbezogener Daten für den Konsumenten bzw. für den Produzenten ?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80880" y="1752480"/>
          <a:ext cx="8382240" cy="4849920"/>
        </p:xfrm>
        <a:graphic>
          <a:graphicData uri="http://schemas.openxmlformats.org/drawingml/2006/table">
            <a:tbl>
              <a:tblPr/>
              <a:tblGrid>
                <a:gridCol w="2793960"/>
                <a:gridCol w="2794320"/>
                <a:gridCol w="279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ür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rtei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chtei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nsument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nden-spezifische Werbu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ird zum „gläsernen Kunden“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vatsphäre wird verletz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duzent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ezielte Werbung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weniger Investition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letzung des Datenschutzes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evtl. rechtliche Proble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öherer Absatz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höherer Umsatz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Tahoma"/>
              </a:rPr>
              <a:t>RFID</a:t>
            </a:r>
            <a:r>
              <a:rPr b="0" lang="de-DE" sz="36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3600"/>
            </a:br>
            <a:r>
              <a:rPr b="0" lang="de-DE" sz="3200" spc="-1" strike="noStrike">
                <a:solidFill>
                  <a:srgbClr val="ff0000"/>
                </a:solidFill>
                <a:latin typeface="Tahoma"/>
              </a:rPr>
              <a:t>(Radio Frequency Identification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Methode zum kontaktlosen Lesen und Speichern von Da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ursprünglich entwickelt zum Identifizieren von Objekten mit Strichco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Daten werden auf „tags“ gespeiche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Daten werden über elektromagnetische Wellen gele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dient als elektrisches „Preisschild“ in Supermärkten etc.  </a:t>
            </a:r>
            <a:r>
              <a:rPr b="1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Weiterentwicklung des Barco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rfid" descr=""/>
          <p:cNvPicPr/>
          <p:nvPr/>
        </p:nvPicPr>
        <p:blipFill>
          <a:blip r:embed="rId2"/>
          <a:stretch/>
        </p:blipFill>
        <p:spPr>
          <a:xfrm>
            <a:off x="6934320" y="3200400"/>
            <a:ext cx="1049040" cy="1035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Tahoma"/>
              </a:rPr>
              <a:t>RFID</a:t>
            </a:r>
            <a:r>
              <a:rPr b="0" lang="de-DE" sz="36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3600"/>
            </a:br>
            <a:r>
              <a:rPr b="0" lang="de-DE" sz="3200" spc="-1" strike="noStrike">
                <a:solidFill>
                  <a:srgbClr val="ff0000"/>
                </a:solidFill>
                <a:latin typeface="Tahoma"/>
              </a:rPr>
              <a:t>(Radio Frequency Identification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2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7010640" cy="4416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 flipV="1">
            <a:off x="2590920" y="5181480"/>
            <a:ext cx="1440" cy="6098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419720" y="4343040"/>
            <a:ext cx="1440" cy="6094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5715000"/>
            <a:ext cx="14479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en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4952880"/>
            <a:ext cx="320040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ktromagnetische Wel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2590920"/>
            <a:ext cx="1800" cy="6094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209680"/>
            <a:ext cx="144756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g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CHUFA Holding AG</a:t>
            </a:r>
            <a:br>
              <a:rPr sz="36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meinschaftseinrichtung der kreditgebenden deutschen Wirtschaf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fgabe:  Schutz von Unternehmen vor Verlusten auf Grund zahlungsunfähiger Kun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UFA ist in Besitz von 317 Millionen Einzeldaten von 59 Millionen Perso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Was sind personenbezogene Daten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nzelangaben über persönliche oder sachliche Verhältnis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es was nicht als „öffentliche“ Daten deklariert 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ürfen nur mit schriftlicher Einwilligung verarbeitet, weitergegeben und veröffentlicht wer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Von wem und unter welchen Vorraussetzungen dürfen personenbezogene Daten erhoben werden?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hörden und staatliche Stelle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laubwürdige Begründu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nwilligung der betroffenen P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setzlich erlaub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Tahoma"/>
              </a:rPr>
              <a:t>Wie kann man sein Recht auf informatielle Selbstbestimmung durchsetzen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Datenschutzgesetz der BRD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Jeder Bürger hat das Recht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-&gt; auf Auskunft darüber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welche Daten gespeichert sind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Zweck der Speicherung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Herkunft der Daten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-&gt; Berichtigung falscher Daten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-&gt; Löschung unzulässig gespeicherter  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    Daten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-&gt; Sperrung von Daten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-&gt; Schadensersatz, falls Schaden    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    entstanden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nen-Gymnasium</cp:lastModifiedBy>
  <dcterms:modified xsi:type="dcterms:W3CDTF">2004-06-14T09:07:46Z</dcterms:modified>
  <cp:revision>7</cp:revision>
  <dc:subject/>
  <dc:title>Datenschutz</dc:title>
</cp:coreProperties>
</file>